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0.wmf" ContentType="image/x-wmf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C86D-4047-4745-B632-D4D0C2F84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sk,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monstrate the steps used to create the radian wh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link to notebook for 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Notebook has a good one in the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pture ideas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20A-76FE-4788-B927-903130C5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71B-BAC2-46D1-A6BA-F4D1F86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E2F-98DE-464B-BB6A-4F411EE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726-3D3C-4C28-BB32-154C4C93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9FE8-09D7-43F7-A9A9-4C05B4A2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920F-5696-48AD-8056-9B07DFC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0D28-8049-4C06-B762-93797AF8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C7A1-A202-489A-AEA7-374244F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8371-E7A1-4729-A697-10735E5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CC1A-4F25-4C04-A92C-8ED1632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674E-C3FD-4714-95EC-6B90D37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703-CFE8-4309-9C60-C8D10F8E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39E4-C482-40C8-8275-EC23641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176-EDA6-4660-BBCC-1B848D0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FF7C-99B5-4833-92E6-E4B7692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9531-3CB2-4434-8A0B-F116437E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446-E25F-4164-9B99-AD8A5AEB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B70-97FB-46D2-A32D-24BBDAF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CF9-E876-4F89-A44A-5C25F30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0FD-4964-4956-AF05-43C8FBC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6D8-A386-475B-B80C-679879E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4E3-6673-4F9F-8BB5-3F1D19D6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97C-784F-4A09-9CF1-EAE9CFA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9AB-B555-454E-9444-D694433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FB6-7031-495F-B1A7-EDF81F62A94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666A-D8A2-4805-B95D-357ACBEB4AE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solcomhouse.com/solar_system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1800"/>
            </a:br>
            <a:r>
              <a:rPr b="0" lang="en-US" sz="1800" spc="-1" strike="noStrike">
                <a:solidFill>
                  <a:srgbClr val="ffcc99"/>
                </a:solidFill>
                <a:latin typeface="Book Antiqua"/>
                <a:ea typeface="Arial"/>
              </a:rPr>
              <a:t>Session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eams of three (walker, calculator operator, CBR man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lect one of the walks pictured or create your ow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and record how you will “Walk the Walk”  to make the graph and use this knowledge to create a similar graph with a graphing calculator and a C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4473720"/>
            <a:ext cx="1981440" cy="1319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48360" y="4437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456000" y="45086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Action: Consolidate the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 decide which graph you wanted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’s are some of the things you thought of when you were first trying to make you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’s adjustments did you have to make for your walk to get closer to you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most challenging about creating your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is this a parallel/open task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affolding question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cepts covered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 to big idea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lk the Talk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91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ur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ecdotal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e opened up the tas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ing about student struggles/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6000" y="1412640"/>
            <a:ext cx="892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ctations: MHF4U D1.2, D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the rate of change for a function is a comparison of changes in the dependent variable to changes in the independent variable, and distinguish situations in which the rate of change is zero, constant or changing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ketch a graph that represents a relationship involving rate of change, as described in words, and verify with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’re analyzing rates of change for periodic functions you need to consider intervals of increase and decrease, and when the rate is zero, constant or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</a:t>
            </a:r>
            <a:r>
              <a:rPr b="0" lang="en-CA" sz="2400" spc="-1" strike="noStrike">
                <a:solidFill>
                  <a:srgbClr val="0d469b"/>
                </a:solidFill>
                <a:latin typeface="Arial"/>
              </a:rPr>
              <a:t>(continued, parking lot connection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 why radi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’s about the scale y=sin x where x is an angle measured in degrees, y = sin x where x is a real number (radians are real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phing compositions of functions           (e.g. y = x sin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: Radian Whee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make a radian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steps 3 through 7 and explore th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 to real worl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40000" y="3392640"/>
            <a:ext cx="2857320" cy="457200"/>
            <a:chOff x="2340000" y="3392640"/>
            <a:chExt cx="2857320" cy="457200"/>
          </a:xfrm>
        </p:grpSpPr>
        <p:sp>
          <p:nvSpPr>
            <p:cNvPr id="136" name=""/>
            <p:cNvSpPr/>
            <p:nvPr/>
          </p:nvSpPr>
          <p:spPr>
            <a:xfrm>
              <a:off x="2340000" y="3392640"/>
              <a:ext cx="456840" cy="457200"/>
            </a:xfrm>
            <a:prstGeom prst="ellipse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0960" y="3621240"/>
              <a:ext cx="2286360" cy="114120"/>
            </a:xfrm>
            <a:prstGeom prst="rect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look at a futur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a ra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standing the unit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phing 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ing your own parallel task (small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big idea and an overall expectation from a Trig Functions strand (include appropriate specific expec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der the connected potential misconceptions/struggles/partial understandings that students have (pos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a learning goal and an appropriate parallel task that addresses the area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ish CLIPS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36640"/>
            <a:ext cx="6409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understandings of today’s activities in you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hat’s Important Book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’s the most important thing about a radian? about an angle? about periodic functions? about any concept focussed on trig functions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’s the most important thing about creating a parallel task? An open question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content knowledge of radian measure, as well as the characteristics and rates of change of trigonometric functions through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parallel task based on a specific learning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 of screen captures on the 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2799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676520"/>
          <a:ext cx="65455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54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1952640"/>
            <a:ext cx="50403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arking Lot: Applic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four record on a placemat different real phenomena which involve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dd as we go, volunteer to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49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…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’s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35640" y="1808280"/>
            <a:ext cx="241128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50920" y="2600280"/>
            <a:ext cx="2700360" cy="2254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80000" y="425772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55640" y="48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28000" y="22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5049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erris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…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7640" y="1700280"/>
            <a:ext cx="3708360" cy="276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543640" y="1736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84360" y="4473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4437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095640" y="4221000"/>
            <a:ext cx="2556000" cy="2111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32360" y="5734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elling real phenomena with trig functions requires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1808280"/>
            <a:ext cx="3851280" cy="29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61800" y="48690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n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097000"/>
            <a:ext cx="3635640" cy="2154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84720" y="4329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34" dur="2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 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w examples chosen from the Mathematical Processes Book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ing &amp; Proving: How can we show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: What do you notice abou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:  What are the connections between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 and Talk Share question(s)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: Session 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ono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content knowledge of radian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understanding of the rates of change of trigonometric functions through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parallel task based on a specific learning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allel Task: Walk the Walk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6002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60680" y="501336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thinking on your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9T16:34:23Z</dcterms:modified>
  <cp:revision>114</cp:revision>
  <dc:subject/>
  <dc:title>Slide 1</dc:title>
</cp:coreProperties>
</file>